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8B4F-691C-4A83-90D1-752495BF1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C30C-5EB1-49CA-80E4-D668876A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30DA-7983-4D5D-8F0B-34DC3CCD6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C9A0-A686-4C24-982D-0FADCCAAB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C47B-D032-4407-88E9-249C4325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1201-BF36-4AD6-8B02-5BE7EE82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0EDA-DB43-4976-899B-C58CD74B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FC51-D7B1-4E93-813C-8F055391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1E29-80C5-48F1-9A2A-F09DE261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FAE5-EB47-43DA-958C-55D029D7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CC1C-6CA6-4014-84DA-827E7CD5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FCD3-0E3D-4564-B344-2D6CDE91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64C7-9E9F-4DAB-BE1A-2F6D962F656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900" spc="-1" strike="noStrike">
                <a:solidFill>
                  <a:srgbClr val="000000"/>
                </a:solidFill>
                <a:latin typeface="Comic Sans MS"/>
              </a:rPr>
              <a:t>El patio de mi casa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El patio de mi casa es particular: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cuando llueve se moja, como los demás.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Agáchate y vuélvete a agachar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que los agachaditos no pueden bail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(saltar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Hache, i, jota, k, ele, elle, eme, A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que si tú no me quieres, otro amante me querrá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Hache, i, jota, k, ele, elle, eme, O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que si tú no me quieres, otro amante tendré y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ara aprender las letras del alfabeto y curar el mal de amores.</a:t>
            </a:r>
            <a:br>
              <a:rPr sz="2200"/>
            </a:b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To learn the alphabet and cure lovesickness!</a:t>
            </a:r>
            <a:br>
              <a:rPr sz="2200"/>
            </a:b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Music file available at: http://www.pequenet.com/canciones/10_musi_master.asp?id=34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 patio in my house is priv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When it rains it gets wet like all the oth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rouch down, and crouch down aga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 crouched down children can’t dance/jum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H, I, J, K, L, LL, M, 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If you don’t love me another will love 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H, I, J, K, L, LL, M, A, 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If you don’t love me I’ll have another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20:22:13Z</dcterms:created>
  <dc:creator>Teacher</dc:creator>
  <dc:description/>
  <dc:language>en-US</dc:language>
  <cp:lastModifiedBy>Teacher</cp:lastModifiedBy>
  <dcterms:modified xsi:type="dcterms:W3CDTF">2010-02-19T20:40:47Z</dcterms:modified>
  <cp:revision>2</cp:revision>
  <dc:subject/>
  <dc:title>El patio de mi casa </dc:title>
</cp:coreProperties>
</file>